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6712-16FB-41E5-AD32-1E11E2B50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38AA-7536-4998-B520-42EEF99C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C165-6C1A-4CE2-BFC6-E63713077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9A62-83AB-468C-A03A-61302338E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C3B0-66A1-47CF-87FB-775B6B6C3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60CC-598F-487F-AA92-4F06BCCE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AC46-B0EB-4F80-9BF9-04BFE74D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96EA-6F40-413C-A2DC-77EC413F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6A83-D674-4D7D-A8D1-E86EF102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3F64-FC42-4686-A26F-6DD83C35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F58D-14DC-4068-B24C-CEBC7550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3913-F5CB-405D-883B-9076E3FF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C989-A3C1-47A7-9F76-205138C0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6C8B-7419-473E-9F2B-DA86681F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7CAA-7E4C-4D8E-92AC-7DCF73C5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CDD4-6E09-4DBE-BEF6-4AAC9F980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31A6-E284-4602-A528-E756606D2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0373-31E8-4E55-9305-55F2148B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8BB8-77FC-4272-BED6-18E42847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0C68-421F-4B57-914B-A614C020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17A1-1781-4167-B03D-204490DC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5C1A-3536-4D81-85EF-B5A3BF2D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161D-EBD3-49B9-B4B6-C80767EC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E58A-251B-440B-8395-A047DF06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00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00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00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0062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0062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3b2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3b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3b2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6583-C164-40EF-9958-5A7C3D836E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00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00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0062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00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00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0062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3b2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3b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3b2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E626-DE1B-45EF-A5F5-80F716D0FA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lavery comes to Americ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Jacob B. Pinkston, Claudia Lopez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first order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sued September 22, 186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lared that all slaves be fr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did not free sl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second orde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sued January 1, 1863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d 10 states that had to free sl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 Carolina, Tennessee, Virginia, Georgia, North Carolina, Mississippi, Kentucky, were all part of the 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end of slavery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the emancipation proclamation was passed most of the slaves were not freed immediat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eventually brought freedom to thousands of sla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September 22, 1862 slaves were fr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braham Lincoln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257440" y="1828440"/>
            <a:ext cx="3429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the 1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esident of the united sa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against slave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sued Emancipation Proclam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4735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Ulysses Grant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29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a general for the union (northern sid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ally won the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4495680" y="1295280"/>
            <a:ext cx="42595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North vs. south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- did not believe in slave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- believed in slavery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lavery issues started the Civil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828800" y="3581280"/>
            <a:ext cx="464832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ivil wa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3124080" y="3297240"/>
            <a:ext cx="358164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lave statistics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ound two million slaves were transported to America during the Atlantic slave t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ere treated harshly and got severe beatings for almost no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en did slavery star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avery started in 1619 when a Dutch ship arrived in Jamestown Virgin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bought tobacco and traded for twenty slav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 1700’s blacks would be a major part of the work force on Sothern plantation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lavery in the south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ne out of ten slaves went to the sou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 20% of the population in the south was slav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aves worked inside and outside doing various job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laves worked on cotton, tobacco, rice and corn planta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laves jobs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orked from daylight to dus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aves worked every day and usually got off once a mont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middle passag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iddle passage refers to a passage of African people to America as part of the Atlantic slave trad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ricans where shipped to markets to be so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markets they were sold to plantation own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middle passage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fricans who where shipped to America were under harsh condi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ere tightly packed into shi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ot of them became seasick on the journey to Amer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middle passage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ide took weeks and sometimes mon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would die on the journey t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ere chained ankle to ankle and wrist to w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the slaves were sold they would then be branded by their ow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emancipation proclamation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mancipation proclamation consisted of two or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was an order to fre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l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cond order named ten specific states in which it appli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8:48:24Z</dcterms:created>
  <dc:creator>teacher</dc:creator>
  <dc:description/>
  <dc:language>en-US</dc:language>
  <cp:lastModifiedBy>Jacob Blaine Pinkston</cp:lastModifiedBy>
  <dcterms:modified xsi:type="dcterms:W3CDTF">2010-01-14T00:54:13Z</dcterms:modified>
  <cp:revision>10</cp:revision>
  <dc:subject/>
  <dc:title>Slavery comes to america </dc:title>
</cp:coreProperties>
</file>